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type.wav" ContentType="audio/x-wav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BA9-8EE5-4271-A2CC-DA2EC79E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C24-F4C5-40A8-B6E4-E7592CA3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9FE-881C-4BCC-B2B0-E1F64E78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BD4-46E3-4FDB-861B-A476C62F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A5BD-2C3C-4A9D-A9EE-08727AD6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77B6-298F-4218-84DA-F4D1B44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C1D7-879A-4939-8CFA-CEC76392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062E-0D94-4271-842D-BEF2A21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1D61-E8E6-4A8C-9B6A-214B6F56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A1DB-4931-40F3-8F7A-9CF8730D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81CD-5577-4CCC-8B8E-F946662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109-CA5E-4420-A6BD-ED2A9B50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884E-3D31-4AC9-8005-5B98C366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EBBA-0A98-4E0A-A9F1-19A93C7A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2ACF-D7ED-45E0-959B-E1A2FBDE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BC35-658B-49B0-94CF-4FC93944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0D8E-2B24-47E1-B038-3373ACF1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7B5-329A-4720-A6EE-DB568B79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E57-0B30-4323-984B-FB9945CD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B50-E0CF-43FC-9D45-D468017F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314-7BD6-409E-9C9B-DCA5422F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DDC-9B8B-4846-8BFC-576B4E3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9E3-ED63-413E-A3B8-AC6D483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8C6-4FDE-4267-9618-8872B37C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DE7B-E533-41F5-8DFA-D3BDB2666C9A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2DB5-8952-4B41-ACBA-0FDD0C64A3C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comgeo.net/archives/1544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photos.baidu.com/ttmm1/pic/item/295c8ddd514e19285982ddc3.jpe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163440"/>
            <a:ext cx="9361440" cy="7021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765000"/>
            <a:ext cx="93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感  恩  父  母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0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发  奋  成  才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634920" y="5300280"/>
            <a:ext cx="5069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高三 一班主题班会     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975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这是医学上罕见的奇迹。医学会议上，有人说要称它为大西洋奇迹，有人建议要以死者的名字命名。一位坐在首席的老先生一字一句地说：“这个奇迹的名字叫父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97560" y="125280"/>
            <a:ext cx="3472560" cy="68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苹果树的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很久很久以前，有一棵很大的树……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她好爱好爱一个小男孩，男孩也每天都会跑来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她身边玩耍。小男孩收集她的叶子，把叶子编成皇冠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戴在头上扮起森林的国王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会沿着树干一直爬到树顶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还会抓着树枝荡秋千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还会爬到树上摘苹果来吃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们会一起玩捉迷藏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玩累了，男孩就靠在树上在她树荫的庇护下睡觉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好爱好爱这棵树，树也好高兴。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日子一天一天过去，男孩也在慢慢长大……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42120" y="0"/>
            <a:ext cx="5459760" cy="72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有一天，男孩来到树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说：“来啊，孩子，爬上我的树干，抓着我的树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荡秋千，吃吃苹果，在我的树荫下玩耍，快快乐乐的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却说：“我已经不是小孩子了，我不要再爬树和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玩耍了。”“我想买一些玩具来玩，我需要钱，你可以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一些钱吗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真抱歉”树说，“我没有钱，只有树叶和苹果。孩子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拿我所有的果子到城里去卖吧，这样，你就会有钱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很高兴，于是爬到树上，摘下了所有的苹果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并把苹果通通带走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看到自己能帮助男孩，心里好高兴啊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摘走苹果以后很久很久都没有再来过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　　树好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华文行楷"/>
              </a:rPr>
              <a:t>伤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3720" y="101520"/>
            <a:ext cx="5435280" cy="67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有一天，当男孩长成一个真正的大人的时候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回来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高兴得发抖，她说：“来啊！孩子，爬上我的树干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抓着我的树枝荡秋千，快快乐乐的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太忙了，没时间爬树。”男孩说，“我必须为我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家庭工作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说：“我想要妻子和小孩，所以，我需要一间房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你可以给我一间房子吗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真抱歉，孩子”，树说，“我没有房子，森林就是我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房子。”“不过，你可以砍下我的树枝去盖房子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这样你就会快乐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于是，男孩砍下了她所有的树枝，心满意足地去盖房子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96760" y="939960"/>
            <a:ext cx="528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因为见到男孩，觉得好快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但是，在那之后，男孩就再也没回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觉得好孤独，心里很难过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53000" y="330120"/>
            <a:ext cx="55936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一个炎热的夏日，男孩回来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太快乐了，快乐得几乎说不出话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来啊！孩子”，她轻轻地对男孩说，“过来，来玩呀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已经老了，玩不动了”男孩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想坐船离开这里，让自己的身心放松一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你可以给我一艘船吗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砍下我的树干去造条船吧！”树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这样你就可以远航了……你就会快乐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于是，男孩砍下了她的树干，做了一条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坐着船去了很远的地方，很久都没有再露面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好快乐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但不是真的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60920" y="887400"/>
            <a:ext cx="522216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很多年之后，男孩已经变成了白发苍苍的老人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他又回到这里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真抱歉，我的孩子”，树说，“我已经没有什么东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再可以给你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的苹果没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的牙齿也咬不动苹果了。”男孩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的树枝没了，你不能在上面荡秋千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太老了，不能在上面荡秋千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的树干没了”，树说，“你也不能爬上来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太老了，也爬不动了”，男孩说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9560" y="527040"/>
            <a:ext cx="481968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说：“我真希望我能给你些什么，可是我什么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没有了。只剩下一个老树根。我很抱歉……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现在不需要那么多”，男孩回答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只要一个可以让我安静坐着休息的地方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这些年来我好累好累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太好了！”树一边说，一边努力挺直身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正好啊，老树根是最适合坐下来休息的。来啊！孩子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坐下，快坐下来休息一下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男孩坐了下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树好快乐。她高兴得留下了流下了泪水……　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840040" y="981000"/>
            <a:ext cx="3838320" cy="47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有一棵大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春天倚着她幻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夏天倚着她繁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秋天倚着她成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冬天倚着她沉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这棵大树就是我们得爸爸妈妈啊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66840" y="476280"/>
            <a:ext cx="5057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是父母给了我们生命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是父母养育我们长大成人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是父母给了我们世界上最伟大而崇高的亲情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是父母让我们真正懂得了什么是骨肉至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父母用爱托起了我们的生命之舟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父母用爱滋润了我们稚嫩的心田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父母用爱抚慰了我们的心灵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华文行楷"/>
              </a:rPr>
              <a:t>父母用爱温暖着我们整整一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33336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隶书"/>
              </a:rPr>
              <a:t>震撼心灵的母爱故事</a:t>
            </a: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隶书"/>
              </a:rPr>
              <a:t>!</a:t>
            </a:r>
            <a:r>
              <a:rPr b="1" lang="zh-CN" sz="6600" spc="-1" strike="noStrike">
                <a:solidFill>
                  <a:srgbClr val="ff0000"/>
                </a:solidFill>
                <a:latin typeface="华文琥珀"/>
                <a:ea typeface="隶书"/>
              </a:rPr>
              <a:t> 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80cba"/>
                </a:solidFill>
                <a:latin typeface="华文琥珀"/>
                <a:ea typeface="新宋体"/>
              </a:rPr>
              <a:t>  </a:t>
            </a:r>
            <a:r>
              <a:rPr b="1" lang="zh-CN" sz="6600" spc="-1" strike="noStrike">
                <a:solidFill>
                  <a:srgbClr val="880cba"/>
                </a:solidFill>
                <a:latin typeface="华文琥珀"/>
                <a:ea typeface="新宋体"/>
              </a:rPr>
              <a:t>汶川地震中的母亲</a:t>
            </a:r>
            <a:r>
              <a:rPr b="1" lang="zh-CN" sz="6600" spc="-1" strike="noStrike">
                <a:solidFill>
                  <a:srgbClr val="ff0000"/>
                </a:solidFill>
                <a:latin typeface="华文琥珀"/>
                <a:ea typeface="隶书"/>
              </a:rPr>
              <a:t>      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121280"/>
            <a:ext cx="360072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076720" y="4121280"/>
            <a:ext cx="3745080" cy="273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920000" cy="4762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26320" y="522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一种观望叫冷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6320" y="5877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有一种自食其力叫辛酸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6920" y="551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经济的发展，不代表社会的进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富足而没有爱心的世界，是绚丽的地狱。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632720" cy="6264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5013360"/>
            <a:ext cx="75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琥珀"/>
              </a:rPr>
              <a:t>感恩应该远离冷漠，拒绝自私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35280" cy="3505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3635280" cy="3352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580000" y="3505320"/>
            <a:ext cx="3564000" cy="3352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88400" y="520560"/>
            <a:ext cx="28616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隶书"/>
              </a:rPr>
              <a:t>深深父母恩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5007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59280" y="2637000"/>
            <a:ext cx="433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6156360"/>
            <a:ext cx="50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59640" y="6033960"/>
            <a:ext cx="4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9596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692360" y="1484280"/>
            <a:ext cx="5472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808000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：如何感恩父母？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808000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651640" y="3141720"/>
            <a:ext cx="2209680" cy="2354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11280" y="0"/>
            <a:ext cx="4548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rnd"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孝的故事</a:t>
            </a:r>
            <a:endParaRPr b="1" lang="en-US" sz="4800" spc="1" strike="noStrike">
              <a:ln cap="rnd"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773360"/>
            <a:ext cx="79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黄香，东汉人，他很小就知道孝敬父亲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黄香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岁时母亲去世了。他十分悲伤，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把对母亲的思念和爱全部倾注到父亲身上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冬夜，天气寒冷。黄香就先钻到父亲的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窝里，躺一会儿才回到自己的床上睡觉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夏天夜里很热，黄香就手执蒲扇，对着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亲枕席使劲扇着。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692360" y="1484280"/>
            <a:ext cx="5472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808000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：如何感恩父母？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808000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651640" y="3141720"/>
            <a:ext cx="2209680" cy="2354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11280" y="0"/>
            <a:ext cx="4548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rnd"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孝的故事</a:t>
            </a:r>
            <a:endParaRPr b="1" lang="en-US" sz="4800" spc="1" strike="noStrike">
              <a:ln cap="rnd"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2818440"/>
            <a:ext cx="668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月底，在深圳一家律师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务所工作的田世国得知母亲刘玉环患尿毒症后，偷偷跑到上海中山医院作了血样检查；配型成功后，他瞒着母亲，毅然将自己的一个肾脏移植给她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8000" y="29397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3046"/>
                </a:solidFill>
                <a:latin typeface="楷体_GB2312"/>
                <a:ea typeface="楷体_GB2312"/>
              </a:rPr>
              <a:t>《挨杖伤老》：汉朝时，大梁有个叫韩伯愈的人，他的母亲对他管教很严格，稍微有点过失，就举杖挥打。无论母亲打多重，他都没有怨言不掉眼泪。可是，有一天伯愈在挨打时，竟然哭得很伤心。母亲觉得奇怪，问道：“往常打你时，你都能接受，今天为什么哭泣？”伯愈回答道：“往常打我时我觉得疼痛，知道母亲还有力气，身体健康，但是今天感觉不到疼痛，知道母亲身体不如以前，体力微弱。所以伤心禁不住流下了泪水。并不是疼痛不能忍受。”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7704000" cy="4535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87280" y="5373720"/>
            <a:ext cx="67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46040" y="260280"/>
            <a:ext cx="68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们真的有这么多的牢骚要发吗，我们的生活、学习真的如此令人不满吗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们真的应该没完没了的抱怨吗？请看下面的一组照片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595008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这是他们每天必经的道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9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你还觉得学习太累了吗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9280" y="0"/>
            <a:ext cx="8174160" cy="4897440"/>
            <a:chOff x="179280" y="0"/>
            <a:chExt cx="8174160" cy="48974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3814560" y="476280"/>
              <a:ext cx="453888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179280" y="0"/>
              <a:ext cx="5113440" cy="489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4392720" y="3645000"/>
            <a:ext cx="47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620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80cb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当救护人员发现她的时候，她已经以这样的姿势定格了：双膝跪地，双手坚定地撑着。她的上身向前匍匐着，模样就像行跪拜礼，她的身体被压得变形了，让人不忍卒睹。但是在废墟中，拱起了一座母爱的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不知道她从哪里得到的力量，在大厦即将倾倒的瞬间，在水泥板和砖块狂暴地砸向她的那一时刻，她没有趴下，而是用这种独特的姿势支撑着，直到永恒。她背负着的是千万斤的废墟啊，但她没有倒下。因为母爱的力量在支撑着她！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也许她还活着？救援人员冲她喊叫，用撬棍敲击着水泥框梁。她没有听见，也没有任何的反应。队长从砖石的缝隙中伸进手，触摸到的却是冰凉的躯体。于是人们暂时放下了她，走向下一个废墟，去救一息尚存的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93000" y="2924280"/>
            <a:ext cx="4586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1989000"/>
            <a:ext cx="4590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42080" y="2349360"/>
            <a:ext cx="45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9354960" cy="4589640"/>
            <a:chOff x="0" y="0"/>
            <a:chExt cx="9354960" cy="458964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5651640" y="0"/>
              <a:ext cx="3703320" cy="446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508720" cy="458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2268360" y="4797360"/>
            <a:ext cx="65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84360" y="530064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你还有理由抱怨生活对你不公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4365360"/>
            <a:ext cx="4716360" cy="1143000"/>
          </a:xfrm>
          <a:prstGeom prst="rect">
            <a:avLst/>
          </a:prstGeom>
          <a:solidFill>
            <a:srgbClr val="7d7d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让你感到很苦恼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5280" y="0"/>
            <a:ext cx="8424720" cy="4086360"/>
            <a:chOff x="395280" y="0"/>
            <a:chExt cx="8424720" cy="408636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930560" y="260280"/>
              <a:ext cx="388944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395280" y="0"/>
              <a:ext cx="4643280" cy="408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932360" y="3068640"/>
            <a:ext cx="4211640" cy="3500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752160" y="2276640"/>
            <a:ext cx="11552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你有他们辛苦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还在抱怨自己的衣着不够时髦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5516280"/>
            <a:ext cx="8229600" cy="1143000"/>
          </a:xfrm>
          <a:prstGeom prst="rect">
            <a:avLst/>
          </a:prstGeom>
          <a:solidFill>
            <a:srgbClr val="7d7d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还在抱怨你的家庭不够富裕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18288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放弃冷漠 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学会感激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;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2828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放弃玩世不恭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相信还有真情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4197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放弃抱怨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学会感恩</a:t>
            </a: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了解父母各个方面（如：爸爸妈妈的工作是什么？辛苦吗？爸爸妈妈最喜欢吃的食物是什么、你了解爸爸妈妈的身体健康状况吗？你爸爸妈妈的生日是哪一天）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尊敬父母，对父母有礼貌，听从父母的正确教导，不当面顶撞父母，不和父母发脾气 。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生活节俭，无浪费现象，不乱花钱，不向父母提过高要求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为父母做力所能及的家务，减轻父母负担。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有心事主动和父母说，经常与父母聊天。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碰到一些比较重大的事情，要和父母商量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征求和认真考虑父母的意见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。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外出时，在征得父母同意后，应把去向和时间告知父母。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努力学好各门功课，经常主动向父母汇报自己在学校的学习生活情况，不让父母操心。 </a:t>
            </a:r>
            <a:br>
              <a:rPr sz="2400"/>
            </a:br>
            <a:r>
              <a:rPr b="0" lang="zh-CN" sz="2400" spc="-1" strike="noStrike">
                <a:solidFill>
                  <a:srgbClr val="007572"/>
                </a:solidFill>
                <a:latin typeface="黑体"/>
                <a:ea typeface="黑体"/>
              </a:rPr>
              <a:t>★父母亲有做得不对的地方要诚恳的指出。</a:t>
            </a:r>
            <a:br>
              <a:rPr sz="2400"/>
            </a:b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83664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经常和父母交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708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耐心听取父母的意见和建议</a:t>
            </a:r>
            <a:br>
              <a:rPr sz="4400"/>
            </a:b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44560" y="4611600"/>
            <a:ext cx="58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幼圆"/>
                <a:ea typeface="幼圆"/>
              </a:rPr>
              <a:t>努力学习，发奋成才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76500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80cb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或许是得到神灵的启示，救援队长忽然想到什么，他迅速地往回跑，竭尽全力地把手伸进那女人身子弯成的苍穹中，他探到了一个软乎乎、暖融融的小生命！那是一个孩子！救护队员们把断壁残砖搬开，从她屈曲的身体下面，抱出一个三四个月大的婴儿。在母亲的呵护下，她还酣然熟睡着，因为有母亲的庇护，山崩地裂，并不意味着什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队长紧紧地把婴儿护在怀里，泪眼莹莹，满脸慈蔼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橄榄绿和红色的襁褓互相辉映，成为人间最美丽的风景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孩子毫发未损，她一直安详地睡着，红扑扑的小脸让所有的人为之动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随行的医生准备给她做体检时，襁褓中却滑出一部手机，上面是一条已经写好的短信：</a:t>
            </a:r>
            <a:r>
              <a:rPr b="1" lang="zh-CN" sz="2800" spc="-1" strike="noStrike">
                <a:solidFill>
                  <a:srgbClr val="880cba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亲爱的宝贝，如果你能活着，一定要记住，妈妈爱你！</a:t>
            </a:r>
            <a:r>
              <a:rPr b="1" i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这是世界上最感人的短信，同时也是一条特殊的遗嘱，一个伟大的祝福！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亲爱的宝贝，妈妈爱你！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手机从这一双手传到另一双手，就这么一直传下去，泪水滴在手机屏上，模糊了那两行字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都说是父爱如山，母爱似水。但谁敢说，这位母亲的脊梁不是一座大山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泪水淹没全世界的眼睛，也让全天下的孩子们如醍醐灌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“</a:t>
            </a:r>
            <a:r>
              <a:rPr b="1" i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母爱无边！”“恩重如山！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7201080" cy="5545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989000"/>
            <a:ext cx="88581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99"/>
                </a:solidFill>
                <a:latin typeface="Times New Roman"/>
              </a:rPr>
              <a:t>亲爱的宝贝，如果你能活着，一定要记住——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99"/>
                </a:solidFill>
                <a:latin typeface="Times New Roman"/>
              </a:rPr>
              <a:t>         </a:t>
            </a:r>
            <a:r>
              <a:rPr b="1" i="1" lang="zh-CN" sz="6600" spc="-1" strike="noStrike">
                <a:solidFill>
                  <a:srgbClr val="ff9933"/>
                </a:solidFill>
                <a:latin typeface="Times New Roman"/>
              </a:rPr>
              <a:t>妈妈爱你</a:t>
            </a:r>
            <a:r>
              <a:rPr b="1" i="1" lang="zh-CN" sz="6000" spc="-1" strike="noStrike">
                <a:solidFill>
                  <a:srgbClr val="c30315"/>
                </a:solidFill>
                <a:latin typeface="Times New Roman"/>
              </a:rPr>
              <a:t> </a:t>
            </a:r>
            <a:r>
              <a:rPr b="1" i="1" lang="zh-CN" sz="6000" spc="-1" strike="noStrike">
                <a:solidFill>
                  <a:srgbClr val="ff3399"/>
                </a:solidFill>
                <a:latin typeface="Times New Roman"/>
              </a:rPr>
              <a:t>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advTm="3000"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748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8360" y="2637000"/>
            <a:ext cx="77770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奇迹的名字叫父亲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7812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华文隶书"/>
              </a:rPr>
              <a:t>奇迹的名字叫父亲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当我认识父亲却没有了解他的时候，一位外籍教授给我讲了一个故事，一个关于父亲的故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很久很久以前，在一艘横渡大洋的船上，一位父亲带着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岁的儿子去美国和妻子会合。一天，当父亲在舱里用水果刀削苹果给儿子吃时，船却突然剧烈摇晃，刀子在父亲摔倒时插进了他的胸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父亲慢慢站起来，在儿子不注意时用拇指揩去刀锋上的血。以后的三天，父亲照常照顾儿子，带他吹海风，看蔚蓝的大海。仿佛一切如常，但儿子未曾注意到父亲每一分钟都比前一分钟衰弱，他看向海平线的目光是如此忧伤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抵达的前夜，父亲来到儿子身旁，对儿子说：“明天见到妈妈的时候，告诉她，我爱她。”说完，在儿子的额上深深地留下一个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船到美国了，儿子在人潮中认出了妈妈，大喊：“妈妈！妈妈！”就在此时，父亲已经仰面倒下，胸口血流如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医生检查的结果让所有人惊呆了：那把刀子精确地插进了父亲的心脏，但他却多活了三天，而且不被任何人发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2:26:20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06:36Z</dcterms:modified>
  <cp:revision>30</cp:revision>
  <dc:subject>主题班会课件(分28大类): http://shop62905894.taobao.com</dc:subject>
  <dc:title>主题班会课件(分28大类): http://shop62905894.taobao.com</dc:title>
</cp:coreProperties>
</file>